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E0E61280-5B28-400C-ADAC-DF1570ABFA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eid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19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0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0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2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2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3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3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5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5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8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8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29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29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0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0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1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4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4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eljapäeval kaks loengut järje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12:0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13:45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erinevad teemad / kursuste ülevaated / õppejõud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sa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ksamil kajastatud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sa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d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 IT valdkonnas: ajaloolised allik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pär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 ülikoo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 ülikoo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llinna ülikoo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manitaa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erinevaid veebirakendus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aidid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Mõned soovitavad p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odcast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lexfridman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.I. Podca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www.preposterousuniverse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Mindscap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Loomulikul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akka lugema kursuse lehel olevat kohustuslikku kirjand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1-09-02T08:35:31Z</dcterms:modified>
  <cp:revision>38</cp:revision>
  <dc:subject/>
  <dc:title> </dc:title>
</cp:coreProperties>
</file>